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3FA-CE7D-4DB8-AE4F-8FFA1CC8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2C2-6477-4BDB-A86B-6700D8FA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80A-CFF1-402E-A1BB-ADDAADEA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E58-9209-4EF0-A123-3B8CE0E7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9BB-1764-4A3F-8859-9841D2B2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707-A80D-47A0-8825-9D298597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BE8-9FC6-4995-AB8A-58A74ACE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36B-FBD4-4368-9F40-C40576CA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6C3-3354-47CB-9EC7-73A0C1BB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8C8-5604-4170-86EE-93F96B95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3E7-29A1-4B21-AA9B-BF0A3925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F68-7977-4C72-A65E-45BC11A1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B994-2A04-433C-9287-896CF085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search/category_search.php?t=v&amp;i=171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epperso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914400"/>
            <a:ext cx="6553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psicl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495288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105520"/>
            <a:ext cx="358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uncin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playmusic.com/search/category_search.php?t=v&amp;i=17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1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tretch/>
        </p:blipFill>
        <p:spPr>
          <a:xfrm>
            <a:off x="533520" y="609480"/>
            <a:ext cx="7086600" cy="2762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4572000"/>
            <a:ext cx="7925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psicl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epper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3657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Eppersons famous inv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was raised in San Francis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person also made a soft dr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quiet popular at h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old his rights to the popsicle to Joe L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ps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ccidently left a stirring stick in his soft drink, and when he woke up, it was froz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roze because he left it on his porch over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me in a variety of color and fl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sicles are not hard to make as Epperson 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how the popsicle w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4:19:04Z</dcterms:created>
  <dc:creator>install</dc:creator>
  <dc:description/>
  <dc:language>en-US</dc:language>
  <cp:lastModifiedBy>install</cp:lastModifiedBy>
  <dcterms:modified xsi:type="dcterms:W3CDTF">2010-03-18T13:40:57Z</dcterms:modified>
  <cp:revision>5</cp:revision>
  <dc:subject/>
  <dc:title>Slide 1</dc:title>
</cp:coreProperties>
</file>